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59B-5270-4870-A57C-1E686D02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59A7-4998-432F-910F-0660A40903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989520" y="401760"/>
            <a:ext cx="1039680" cy="11491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8"/>
          <p:cNvGrpSpPr/>
          <p:nvPr/>
        </p:nvGrpSpPr>
        <p:grpSpPr>
          <a:xfrm>
            <a:off x="1079640" y="1079640"/>
            <a:ext cx="3386160" cy="4502160"/>
            <a:chOff x="1079640" y="1079640"/>
            <a:chExt cx="3386160" cy="450216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33072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521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5326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277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421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2878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08000" y="90360"/>
            <a:ext cx="381636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60480" y="56484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889440" y="5945040"/>
            <a:ext cx="15364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3:45:39Z</dcterms:modified>
  <cp:revision>25</cp:revision>
  <dc:subject/>
  <dc:title>PowerPoint プレゼンテーション</dc:title>
</cp:coreProperties>
</file>