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C85D-80BA-4BD2-9A6D-5080C54D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204-DDF7-4E17-8496-16674EC9C2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53160" y="393840"/>
            <a:ext cx="10508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2068560" y="235080"/>
            <a:ext cx="4071960" cy="6109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144360" y="563580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2:30Z</dcterms:modified>
  <cp:revision>23</cp:revision>
  <dc:subject/>
  <dc:title>PowerPoint プレゼンテーション</dc:title>
</cp:coreProperties>
</file>