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8207375" cy="66595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sldImg"/>
          </p:nvPr>
        </p:nvSpPr>
        <p:spPr>
          <a:xfrm>
            <a:off x="1316160" y="685440"/>
            <a:ext cx="4225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r>
              <a:rPr b="0" lang="en-US" sz="200" spc="-1" strike="noStrike">
                <a:solidFill>
                  <a:srgbClr val="1f497d"/>
                </a:solidFill>
                <a:latin typeface="Arial"/>
              </a:rPr>
              <a:t>Click to move the slide</a:t>
            </a: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4DC62-A922-4151-BA47-8BDC2C458D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89835-DE55-45A9-8DE5-51877DFBA28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316160" y="685800"/>
            <a:ext cx="422568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10400" y="265680"/>
            <a:ext cx="7386840" cy="11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10400" y="1558440"/>
            <a:ext cx="738684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10400" y="3575880"/>
            <a:ext cx="738684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10400" y="265680"/>
            <a:ext cx="7386840" cy="11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10400" y="1558440"/>
            <a:ext cx="360468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195800" y="1558440"/>
            <a:ext cx="360468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10400" y="3575880"/>
            <a:ext cx="360468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195800" y="3575880"/>
            <a:ext cx="360468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10400" y="265680"/>
            <a:ext cx="7386840" cy="11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10400" y="1558440"/>
            <a:ext cx="237816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907720" y="1558440"/>
            <a:ext cx="237816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405400" y="1558440"/>
            <a:ext cx="237816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10400" y="3575880"/>
            <a:ext cx="237816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907720" y="3575880"/>
            <a:ext cx="237816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5405400" y="3575880"/>
            <a:ext cx="237816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10400" y="265680"/>
            <a:ext cx="7386840" cy="11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10400" y="1558440"/>
            <a:ext cx="7386840" cy="38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0400" y="265680"/>
            <a:ext cx="7386840" cy="11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10400" y="1558440"/>
            <a:ext cx="7386840" cy="38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10400" y="265680"/>
            <a:ext cx="7386840" cy="11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10400" y="1558440"/>
            <a:ext cx="3604680" cy="38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195800" y="1558440"/>
            <a:ext cx="3604680" cy="38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10400" y="265680"/>
            <a:ext cx="7386840" cy="11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10400" y="265680"/>
            <a:ext cx="7386840" cy="515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10400" y="265680"/>
            <a:ext cx="7386840" cy="11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10400" y="1558440"/>
            <a:ext cx="360468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195800" y="1558440"/>
            <a:ext cx="3604680" cy="38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10400" y="3575880"/>
            <a:ext cx="360468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0400" y="265680"/>
            <a:ext cx="7386840" cy="11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10400" y="1558440"/>
            <a:ext cx="3604680" cy="38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195800" y="1558440"/>
            <a:ext cx="360468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195800" y="3575880"/>
            <a:ext cx="360468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10400" y="265680"/>
            <a:ext cx="7386840" cy="11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10400" y="1558440"/>
            <a:ext cx="360468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195800" y="1558440"/>
            <a:ext cx="360468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10400" y="3575880"/>
            <a:ext cx="738684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6653160" y="393840"/>
            <a:ext cx="1050840" cy="1162080"/>
          </a:xfrm>
          <a:prstGeom prst="rect">
            <a:avLst/>
          </a:prstGeom>
          <a:ln w="0">
            <a:noFill/>
          </a:ln>
        </p:spPr>
      </p:pic>
      <p:grpSp>
        <p:nvGrpSpPr>
          <p:cNvPr id="1" name="Group 48"/>
          <p:cNvGrpSpPr/>
          <p:nvPr/>
        </p:nvGrpSpPr>
        <p:grpSpPr>
          <a:xfrm>
            <a:off x="1079640" y="1079640"/>
            <a:ext cx="6049800" cy="4502160"/>
            <a:chOff x="1079640" y="1079640"/>
            <a:chExt cx="6049800" cy="4502160"/>
          </a:xfrm>
        </p:grpSpPr>
        <p:sp>
          <p:nvSpPr>
            <p:cNvPr id="2" name="Line 24"/>
            <p:cNvSpPr/>
            <p:nvPr/>
          </p:nvSpPr>
          <p:spPr>
            <a:xfrm>
              <a:off x="1079640" y="1330200"/>
              <a:ext cx="6049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25"/>
            <p:cNvSpPr/>
            <p:nvPr/>
          </p:nvSpPr>
          <p:spPr>
            <a:xfrm>
              <a:off x="1079640" y="1438200"/>
              <a:ext cx="6049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Line 26"/>
            <p:cNvSpPr/>
            <p:nvPr/>
          </p:nvSpPr>
          <p:spPr>
            <a:xfrm>
              <a:off x="1079640" y="3330720"/>
              <a:ext cx="6049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Line 27"/>
            <p:cNvSpPr/>
            <p:nvPr/>
          </p:nvSpPr>
          <p:spPr>
            <a:xfrm>
              <a:off x="1079640" y="5218200"/>
              <a:ext cx="6049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Line 28"/>
            <p:cNvSpPr/>
            <p:nvPr/>
          </p:nvSpPr>
          <p:spPr>
            <a:xfrm>
              <a:off x="1079640" y="5326200"/>
              <a:ext cx="6049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29"/>
            <p:cNvSpPr/>
            <p:nvPr/>
          </p:nvSpPr>
          <p:spPr>
            <a:xfrm>
              <a:off x="1330200" y="1079640"/>
              <a:ext cx="0" cy="4502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Line 30"/>
            <p:cNvSpPr/>
            <p:nvPr/>
          </p:nvSpPr>
          <p:spPr>
            <a:xfrm>
              <a:off x="1438200" y="1079640"/>
              <a:ext cx="0" cy="4502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Line 31"/>
            <p:cNvSpPr/>
            <p:nvPr/>
          </p:nvSpPr>
          <p:spPr>
            <a:xfrm>
              <a:off x="4102200" y="1079640"/>
              <a:ext cx="0" cy="4502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Line 32"/>
            <p:cNvSpPr/>
            <p:nvPr/>
          </p:nvSpPr>
          <p:spPr>
            <a:xfrm>
              <a:off x="6764400" y="1079640"/>
              <a:ext cx="0" cy="4502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Line 33"/>
            <p:cNvSpPr/>
            <p:nvPr/>
          </p:nvSpPr>
          <p:spPr>
            <a:xfrm>
              <a:off x="6872400" y="1079640"/>
              <a:ext cx="0" cy="4502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Rectangle 34"/>
            <p:cNvSpPr/>
            <p:nvPr/>
          </p:nvSpPr>
          <p:spPr>
            <a:xfrm>
              <a:off x="1330200" y="1330200"/>
              <a:ext cx="5542200" cy="39942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" name="AutoShape 51"/>
          <p:cNvSpPr/>
          <p:nvPr/>
        </p:nvSpPr>
        <p:spPr>
          <a:xfrm>
            <a:off x="4152960" y="535608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AutoShape 52"/>
          <p:cNvSpPr/>
          <p:nvPr/>
        </p:nvSpPr>
        <p:spPr>
          <a:xfrm>
            <a:off x="4167360" y="1008000"/>
            <a:ext cx="247320" cy="247680"/>
          </a:xfrm>
          <a:custGeom>
            <a:avLst/>
            <a:gdLst>
              <a:gd name="textAreaLeft" fmla="*/ 56520 w 247320"/>
              <a:gd name="textAreaRight" fmla="*/ 190800 w 24732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" name="Picture 24" descr=""/>
          <p:cNvPicPr/>
          <p:nvPr/>
        </p:nvPicPr>
        <p:blipFill>
          <a:blip r:embed="rId3"/>
          <a:stretch/>
        </p:blipFill>
        <p:spPr>
          <a:xfrm>
            <a:off x="2055960" y="235080"/>
            <a:ext cx="4097160" cy="610920"/>
          </a:xfrm>
          <a:prstGeom prst="rect">
            <a:avLst/>
          </a:prstGeom>
          <a:ln w="0">
            <a:noFill/>
          </a:ln>
        </p:spPr>
      </p:pic>
      <p:sp>
        <p:nvSpPr>
          <p:cNvPr id="16" name="Text Box 55"/>
          <p:cNvSpPr/>
          <p:nvPr/>
        </p:nvSpPr>
        <p:spPr>
          <a:xfrm>
            <a:off x="144360" y="5635800"/>
            <a:ext cx="3355920" cy="927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ja-JP" sz="900" spc="-1" strike="noStrike">
                <a:solidFill>
                  <a:srgbClr val="ff0000"/>
                </a:solidFill>
                <a:latin typeface="ＭＳ Ｐゴシック"/>
              </a:rPr>
              <a:t>テンプレート使用時の注意点　～必ずお読みください～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①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用紙サイズの変更やトンボの移動、変形などは絶対にしないようお願いします。</a:t>
            </a: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②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フチ無し印刷をご希望の場合は、「</a:t>
            </a:r>
            <a:r>
              <a:rPr b="0" lang="ja-JP" sz="600" spc="-1" strike="noStrike">
                <a:solidFill>
                  <a:srgbClr val="ff0000"/>
                </a:solidFill>
                <a:latin typeface="ＭＳ Ｐゴシック"/>
              </a:rPr>
              <a:t>ヌリ足し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」まで色や写真を配置して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③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透過性や半透明、パターンなどは変換が正常に出来ない場合がございます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④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入稿される際は、必ず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形式で保存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したデータでお願いいたします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⑤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形式で保存される前に必ず添付の「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PowerPoint-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入稿データについて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ｐｄｆ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」をお読み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⑥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の書き出し方法については下記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の弊社ホームページをご参照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http://www.vanfu.co.jp/guide/technical/microsoft-office/#pd002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⑦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を作成後は、必ずこのドキュメントと同じサイズ（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228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ｘ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185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）になっているかご確認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"/>
          <p:cNvSpPr/>
          <p:nvPr/>
        </p:nvSpPr>
        <p:spPr>
          <a:xfrm>
            <a:off x="6553080" y="5923080"/>
            <a:ext cx="1511280" cy="632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Ｐゴシック"/>
              </a:rPr>
              <a:t>このドキュメントのサイズは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幅</a:t>
            </a:r>
            <a:r>
              <a:rPr b="1" lang="en-US" sz="1000" spc="-1" strike="noStrike">
                <a:solidFill>
                  <a:srgbClr val="ff0000"/>
                </a:solidFill>
                <a:latin typeface="ＭＳ Ｐゴシック"/>
              </a:rPr>
              <a:t>228</a:t>
            </a: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ｍｍ</a:t>
            </a:r>
            <a:r>
              <a:rPr b="1" lang="en-US" sz="1000" spc="-1" strike="noStrike">
                <a:solidFill>
                  <a:srgbClr val="ff0000"/>
                </a:solidFill>
                <a:latin typeface="ＭＳ Ｐゴシック"/>
              </a:rPr>
              <a:t>×</a:t>
            </a: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高</a:t>
            </a:r>
            <a:r>
              <a:rPr b="1" lang="en-US" sz="1000" spc="-1" strike="noStrike">
                <a:solidFill>
                  <a:srgbClr val="ff0000"/>
                </a:solidFill>
                <a:latin typeface="ＭＳ Ｐゴシック"/>
              </a:rPr>
              <a:t>185</a:t>
            </a: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ｍ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Ｐゴシック"/>
              </a:rPr>
              <a:t>になります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/>
  <dc:description/>
  <dc:language>en-US</dc:language>
  <cp:lastModifiedBy>W490</cp:lastModifiedBy>
  <dcterms:modified xsi:type="dcterms:W3CDTF">2015-11-01T13:43:22Z</dcterms:modified>
  <cp:revision>24</cp:revision>
  <dc:subject/>
  <dc:title>PowerPoint プレゼンテーション</dc:title>
</cp:coreProperties>
</file>