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1AD2-2A86-466C-AD42-0C1DC2A76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A0AA-598C-43BC-A5B1-DAA4CAD505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630600" y="40176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92160" y="95400"/>
            <a:ext cx="3429000" cy="51588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61920" y="511956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21:31Z</dcterms:modified>
  <cp:revision>30</cp:revision>
  <dc:subject/>
  <dc:title>PowerPoint プレゼンテーション</dc:title>
</cp:coreProperties>
</file>