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16BF-E39E-42EA-9DE6-0C17E8D6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0372-9FC0-471F-BD2E-0C0ECE35B5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00440" y="39672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7"/>
          <p:cNvGrpSpPr/>
          <p:nvPr/>
        </p:nvGrpSpPr>
        <p:grpSpPr>
          <a:xfrm>
            <a:off x="1079640" y="1079640"/>
            <a:ext cx="3997080" cy="5330520"/>
            <a:chOff x="1079640" y="1079640"/>
            <a:chExt cx="3997080" cy="533052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74184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6045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6153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30780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4821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349092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SzPct val="53000"/>
                <a:buFont typeface="ＭＳ 明朝"/>
                <a:buChar char="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92160" y="87480"/>
            <a:ext cx="4057560" cy="61272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60480" y="64548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92520" y="68007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5:34:54Z</dcterms:modified>
  <cp:revision>22</cp:revision>
  <dc:subject/>
  <dc:title>PowerPoint プレゼンテーション</dc:title>
</cp:coreProperties>
</file>