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F2E-61FB-4084-A359-9FB5B4D3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225-A390-40F5-95E7-5203FEF18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01520" y="98280"/>
            <a:ext cx="4041720" cy="61308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60480" y="64548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36:37Z</dcterms:modified>
  <cp:revision>22</cp:revision>
  <dc:subject/>
  <dc:title>PowerPoint プレゼンテーション</dc:title>
</cp:coreProperties>
</file>