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940425" cy="4824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10456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12120" y="112860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29700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10456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3912120" y="2589840"/>
            <a:ext cx="17211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534564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297000" y="192240"/>
            <a:ext cx="5345640" cy="37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27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36240" y="258984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97000" y="192240"/>
            <a:ext cx="5345640" cy="8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36240" y="1128600"/>
            <a:ext cx="260856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97000" y="2589840"/>
            <a:ext cx="5345640" cy="133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386240" y="396720"/>
            <a:ext cx="1039680" cy="115092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3"/>
          <p:cNvGrpSpPr/>
          <p:nvPr/>
        </p:nvGrpSpPr>
        <p:grpSpPr>
          <a:xfrm>
            <a:off x="1079640" y="1079640"/>
            <a:ext cx="3781440" cy="2665440"/>
            <a:chOff x="1079640" y="1079640"/>
            <a:chExt cx="3781440" cy="2665440"/>
          </a:xfrm>
        </p:grpSpPr>
        <p:sp>
          <p:nvSpPr>
            <p:cNvPr id="2" name="Line 22"/>
            <p:cNvSpPr/>
            <p:nvPr/>
          </p:nvSpPr>
          <p:spPr>
            <a:xfrm>
              <a:off x="1079640" y="1330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23"/>
            <p:cNvSpPr/>
            <p:nvPr/>
          </p:nvSpPr>
          <p:spPr>
            <a:xfrm>
              <a:off x="1079640" y="143820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24"/>
            <p:cNvSpPr/>
            <p:nvPr/>
          </p:nvSpPr>
          <p:spPr>
            <a:xfrm>
              <a:off x="1079640" y="24130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25"/>
            <p:cNvSpPr/>
            <p:nvPr/>
          </p:nvSpPr>
          <p:spPr>
            <a:xfrm>
              <a:off x="1079640" y="3381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26"/>
            <p:cNvSpPr/>
            <p:nvPr/>
          </p:nvSpPr>
          <p:spPr>
            <a:xfrm>
              <a:off x="1079640" y="3489480"/>
              <a:ext cx="37814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27"/>
            <p:cNvSpPr/>
            <p:nvPr/>
          </p:nvSpPr>
          <p:spPr>
            <a:xfrm>
              <a:off x="1330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28"/>
            <p:cNvSpPr/>
            <p:nvPr/>
          </p:nvSpPr>
          <p:spPr>
            <a:xfrm>
              <a:off x="143820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29"/>
            <p:cNvSpPr/>
            <p:nvPr/>
          </p:nvSpPr>
          <p:spPr>
            <a:xfrm>
              <a:off x="297036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30"/>
            <p:cNvSpPr/>
            <p:nvPr/>
          </p:nvSpPr>
          <p:spPr>
            <a:xfrm>
              <a:off x="4497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31"/>
            <p:cNvSpPr/>
            <p:nvPr/>
          </p:nvSpPr>
          <p:spPr>
            <a:xfrm>
              <a:off x="4605480" y="1079640"/>
              <a:ext cx="0" cy="266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32"/>
            <p:cNvSpPr/>
            <p:nvPr/>
          </p:nvSpPr>
          <p:spPr>
            <a:xfrm>
              <a:off x="1330200" y="1330200"/>
              <a:ext cx="3275280" cy="2159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AutoShape 98"/>
          <p:cNvSpPr/>
          <p:nvPr/>
        </p:nvSpPr>
        <p:spPr>
          <a:xfrm>
            <a:off x="3027240" y="353700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9"/>
          <p:cNvSpPr/>
          <p:nvPr/>
        </p:nvSpPr>
        <p:spPr>
          <a:xfrm>
            <a:off x="3016080" y="1046160"/>
            <a:ext cx="247680" cy="247680"/>
          </a:xfrm>
          <a:custGeom>
            <a:avLst/>
            <a:gdLst>
              <a:gd name="textAreaLeft" fmla="*/ 56520 w 247680"/>
              <a:gd name="textAreaRight" fmla="*/ 191160 w 247680"/>
              <a:gd name="textAreaTop" fmla="*/ 56520 h 247680"/>
              <a:gd name="textAreaBottom" fmla="*/ 19116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69920"/>
                <a:tab algn="l" pos="2139840"/>
                <a:tab algn="l" pos="3209760"/>
                <a:tab algn="l" pos="4280040"/>
                <a:tab algn="l" pos="5349960"/>
                <a:tab algn="l" pos="6419880"/>
                <a:tab algn="l" pos="7489800"/>
                <a:tab algn="l" pos="8559720"/>
                <a:tab algn="l" pos="9629640"/>
                <a:tab algn="l" pos="10699920"/>
              </a:tabLst>
            </a:pPr>
            <a:r>
              <a:rPr b="1" lang="ja-JP" sz="1000" spc="-1" strike="noStrike">
                <a:solidFill>
                  <a:srgbClr val="ff00ff"/>
                </a:solidFill>
                <a:latin typeface="Arial"/>
              </a:rPr>
              <a:t>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" name="Picture 26" descr=""/>
          <p:cNvPicPr/>
          <p:nvPr/>
        </p:nvPicPr>
        <p:blipFill>
          <a:blip r:embed="rId3"/>
          <a:stretch/>
        </p:blipFill>
        <p:spPr>
          <a:xfrm>
            <a:off x="568440" y="252360"/>
            <a:ext cx="3670200" cy="608040"/>
          </a:xfrm>
          <a:prstGeom prst="rect">
            <a:avLst/>
          </a:prstGeom>
          <a:ln w="0">
            <a:noFill/>
          </a:ln>
        </p:spPr>
      </p:pic>
      <p:sp>
        <p:nvSpPr>
          <p:cNvPr id="16" name="Text Box 55"/>
          <p:cNvSpPr/>
          <p:nvPr/>
        </p:nvSpPr>
        <p:spPr>
          <a:xfrm>
            <a:off x="593640" y="3801960"/>
            <a:ext cx="3355920" cy="97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テンプレート使用時の注意点　～必ずお読みください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①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用紙サイズの変更やトンボの移動、変形などは絶対にしないようお願いします。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②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フチ無し印刷をご希望の場合は、「</a:t>
            </a:r>
            <a:r>
              <a:rPr b="0" lang="ja-JP" sz="600" spc="-1" strike="noStrike">
                <a:solidFill>
                  <a:srgbClr val="ff0000"/>
                </a:solidFill>
                <a:latin typeface="ＭＳ Ｐゴシック"/>
              </a:rPr>
              <a:t>ヌリ足し</a:t>
            </a: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」まで色や写真を配置して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ＭＳ Ｐゴシック"/>
              </a:rPr>
              <a:t>③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透過性や半透明、パターンなどは変換が正常に出来ない場合がござい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入稿される際は、必ず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形式で保存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したデータでお願いいたします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⑤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形式で保存される前に必ず添付の「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PowerPoint-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入稿データについて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ｐｄｆ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」をお読み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⑥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書き出し方法については下記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URL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の弊社ホームページをご参照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http://www.vanfu.co.jp/guide/technical/microsoft-office/#pd00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⑦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を作成後は、必ずこのドキュメントと同じサイズ（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65</a:t>
            </a:r>
            <a:r>
              <a:rPr b="0" lang="ja-JP" sz="600" spc="-1" strike="noStrike">
                <a:solidFill>
                  <a:srgbClr val="ff0000"/>
                </a:solidFill>
                <a:latin typeface="Arial"/>
              </a:rPr>
              <a:t>ｘ</a:t>
            </a:r>
            <a:r>
              <a:rPr b="0" lang="en-US" sz="600" spc="-1" strike="noStrike">
                <a:solidFill>
                  <a:srgbClr val="ff0000"/>
                </a:solidFill>
                <a:latin typeface="Arial"/>
              </a:rPr>
              <a:t>134</a:t>
            </a:r>
            <a:r>
              <a:rPr b="0" lang="ja-JP" sz="600" spc="-1" strike="noStrike">
                <a:solidFill>
                  <a:srgbClr val="000000"/>
                </a:solidFill>
                <a:latin typeface="Arial"/>
              </a:rPr>
              <a:t>）になっているかご確認ください。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3967200" y="4332240"/>
            <a:ext cx="1352520" cy="444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このドキュメントのサイズは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幅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65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×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高</a:t>
            </a:r>
            <a:r>
              <a:rPr b="1" lang="en-US" sz="900" spc="-1" strike="noStrike">
                <a:solidFill>
                  <a:srgbClr val="ff0000"/>
                </a:solidFill>
                <a:latin typeface="ＭＳ Ｐゴシック"/>
              </a:rPr>
              <a:t>134</a:t>
            </a:r>
            <a:r>
              <a:rPr b="1" lang="ja-JP" sz="900" spc="-1" strike="noStrike">
                <a:solidFill>
                  <a:srgbClr val="ff0000"/>
                </a:solidFill>
                <a:latin typeface="ＭＳ Ｐゴシック"/>
              </a:rPr>
              <a:t>ｍｍ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14520"/>
                <a:tab algn="l" pos="1228680"/>
                <a:tab algn="l" pos="1843200"/>
                <a:tab algn="l" pos="2457360"/>
                <a:tab algn="l" pos="3071880"/>
                <a:tab algn="l" pos="3686040"/>
                <a:tab algn="l" pos="4300560"/>
                <a:tab algn="l" pos="4915080"/>
                <a:tab algn="l" pos="5529240"/>
                <a:tab algn="l" pos="6143760"/>
                <a:tab algn="l" pos="6757920"/>
                <a:tab algn="l" pos="7372440"/>
                <a:tab algn="l" pos="7986600"/>
                <a:tab algn="l" pos="8601120"/>
                <a:tab algn="l" pos="9215280"/>
                <a:tab algn="l" pos="9829800"/>
                <a:tab algn="l" pos="1044432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Ｐゴシック"/>
              </a:rPr>
              <a:t>になります。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/>
  <dc:description/>
  <dc:language>en-US</dc:language>
  <cp:lastModifiedBy>W490</cp:lastModifiedBy>
  <dcterms:modified xsi:type="dcterms:W3CDTF">2015-11-01T19:59:55Z</dcterms:modified>
  <cp:revision>16</cp:revision>
  <dc:subject/>
  <dc:title>PowerPoint プレゼンテーション</dc:title>
</cp:coreProperties>
</file>