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7492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105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06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76320" y="76320"/>
            <a:ext cx="3090600" cy="4982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54000" y="49165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427560" y="5446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8:59:37Z</dcterms:modified>
  <cp:revision>19</cp:revision>
  <dc:subject/>
  <dc:title>PowerPoint プレゼンテーション</dc:title>
</cp:coreProperties>
</file>